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80B-C9F9-48CF-B543-617EE7BF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09E-5532-45F0-B1B5-AD5775F5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C9F-5A68-4A38-B2DD-FE6DFFE3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53C-9017-4899-884E-72D23EBB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94DE-7F58-4DEE-8256-D8E7E83E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3031-1286-44B7-A768-160172DC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B203-321E-47F3-9A8E-4EC8517F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8006-4486-4605-BF73-21CEDBAC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5E1B-8690-48D2-9A25-2C94E58D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EE16-AAF4-43B4-AAC5-B4DC7C8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98D8-AD30-40E3-A4B4-B7E2CF5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2470-631F-4E43-917B-45DF8D2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F15A-EC8C-416C-ABCF-2CF91D21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5155-9281-4F90-8A2E-4085FE32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BB08-E1CC-4194-8480-B33854FE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0956-0359-4A57-BE34-38C7B9CD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88C2-2E2E-4E5E-A4DF-B1B487CB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4F6-9E68-48F0-8C0A-6C3FBBC7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9BE-345F-44B3-838B-20C793EE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065-56AC-4C06-B49A-74154FFF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FA9-29A8-46D2-8B95-1B88A241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5EF-3391-455B-B24D-1553AA6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28F-6137-4455-8E1F-4812D408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3AD-6F2C-4E8A-95E4-DB8603A3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2AEA-8F83-45EB-902B-787022D6268B}" type="slidenum">
              <a:rPr b="0" lang="pl-PL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D9C0-5E31-4B2B-929B-22C305A45454}" type="slidenum">
              <a:rPr b="0" lang="pl-PL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inakoteka.zascianek.pl/Grottger/Images/Szlachcic1.jpg" TargetMode="External"/><Relationship Id="rId2" Type="http://schemas.openxmlformats.org/officeDocument/2006/relationships/hyperlink" Target="http://www.pinakoteka.zascianek.pl/Grottger/Grottger_Wwa1.htm" TargetMode="External"/><Relationship Id="rId3" Type="http://schemas.openxmlformats.org/officeDocument/2006/relationships/hyperlink" Target="http://www.pinakoteka.zascianek.pl/Grottger/Grottger_Wwa2.htm" TargetMode="External"/><Relationship Id="rId4" Type="http://schemas.openxmlformats.org/officeDocument/2006/relationships/hyperlink" Target="http://www.pinakoteka.zascianek.pl/Grottger/Grottger_Pol.htm" TargetMode="Externa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owstanie styczniow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b5249"/>
                </a:solidFill>
                <a:latin typeface="Times New Roman"/>
              </a:rPr>
              <a:t>Powstanie styczniowe-wizja malarska.Prezentacja na lekcję historii w klasie 2 liceum ogólnokształcący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OBRONA DWOR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5" name="Obrona%20dworu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ŻAŁOBNE WIEŚC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Żałobne%20wieści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848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KARTA TYTUŁOW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9" name="Karta%20tytułowa-Polonia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076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</a:t>
            </a: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ZAKOŃCZENIE   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            PREZENTACJI.           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657600"/>
            <a:ext cx="693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a3d7a"/>
                </a:solidFill>
                <a:latin typeface="Times New Roman"/>
              </a:rPr>
              <a:t>Autorem prezentacji „Powstanie styczniowe-wizja malarska” jest nauczyciel historii Liceum Ogólnokształcącego w Namysłowie Iwona Lechowicz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Cel prezentacji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Celem prezentacji jest przypomnienie i utrwalenie wiadomości dotyczących powstania styczniowego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PLAN PREZENTACJI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1.Odtworzenie chronologii zdarzeń poprzedzających wybuch powstania i samego przebiegu powstania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2.Przybliżenie postaci Artura Grottgera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3.Prezentacja właściwa-pokaz obrazów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4.Zadanie domowe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5b5249"/>
                </a:solidFill>
                <a:latin typeface="Times New Roman"/>
              </a:rPr>
              <a:t>Który z prezentowanych obrazów według ciebie najbardziej sugestywnie oddaje atmosferę tamtych czasów i wydarzeń.Przygotuj się do dyskusji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Biografia Artura Grottgera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46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90720" y="1905120"/>
            <a:ext cx="7324560" cy="4571640"/>
            <a:chOff x="990720" y="1905120"/>
            <a:chExt cx="7324560" cy="4571640"/>
          </a:xfrm>
        </p:grpSpPr>
        <p:grpSp>
          <p:nvGrpSpPr>
            <p:cNvPr id="99" name=""/>
            <p:cNvGrpSpPr/>
            <p:nvPr/>
          </p:nvGrpSpPr>
          <p:grpSpPr>
            <a:xfrm>
              <a:off x="995400" y="1911240"/>
              <a:ext cx="7315200" cy="4558680"/>
              <a:chOff x="995400" y="1911240"/>
              <a:chExt cx="7315200" cy="4558680"/>
            </a:xfrm>
          </p:grpSpPr>
          <p:sp>
            <p:nvSpPr>
              <p:cNvPr id="100" name=""/>
              <p:cNvSpPr/>
              <p:nvPr/>
            </p:nvSpPr>
            <p:spPr>
              <a:xfrm>
                <a:off x="995400" y="1911240"/>
                <a:ext cx="7315200" cy="45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b5249"/>
                    </a:solidFill>
                    <a:latin typeface="Times New Roman"/>
                  </a:rPr>
                  <a:t>  </a:t>
                </a:r>
                <a:r>
                  <a:rPr b="0" lang="en-US" sz="1600" spc="-1" strike="noStrike">
                    <a:solidFill>
                      <a:srgbClr val="5b5249"/>
                    </a:solidFill>
                    <a:latin typeface="Times New Roman"/>
                  </a:rPr>
                  <a:t>  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Jeden z czołowych przedstawicieli romantyzmu w malarstwie polskim. Studia artystyczne we Lwowie (1848-52), w krakowskiej Szkole Sztuk Pięknych (1852-54) i w akademii w Wiedniu (1855-58). W 1858 był w Monachium, gdzie zapoznał się z kartonami W. Kaulbacha i M. von Schwinda. Pod ich wpływem wykonał pierwsze cykle kartonów </a:t>
                </a:r>
                <a:r>
                  <a:rPr b="0" lang="en-US" sz="1800" spc="-1" strike="noStrike" u="sng">
                    <a:solidFill>
                      <a:srgbClr val="b0ae6a"/>
                    </a:solidFill>
                    <a:uFillTx/>
                    <a:latin typeface="Times New Roman"/>
                    <a:hlinkClick r:id="rId1"/>
                  </a:rPr>
                  <a:t>Szkoła szlachcica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oraz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Wczoraj-Dziś-Jutro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. Po powrocie do Polski (1865) przebywał w Małopolsce. W końcu 1866 wyjechał do Francji. </a:t>
                </a:r>
                <a:endParaRPr b="0" lang="en-US" sz="18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    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Twórca cyklów rysunkowych </a:t>
                </a:r>
                <a:r>
                  <a:rPr b="0" lang="en-US" sz="1800" spc="-1" strike="noStrike" u="sng">
                    <a:solidFill>
                      <a:srgbClr val="b0ae6a"/>
                    </a:solidFill>
                    <a:uFillTx/>
                    <a:latin typeface="Times New Roman"/>
                    <a:hlinkClick r:id="rId2"/>
                  </a:rPr>
                  <a:t>Warszawa I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1), </a:t>
                </a:r>
                <a:r>
                  <a:rPr b="0" lang="en-US" sz="1800" spc="-1" strike="noStrike" u="sng">
                    <a:solidFill>
                      <a:srgbClr val="b0ae6a"/>
                    </a:solidFill>
                    <a:uFillTx/>
                    <a:latin typeface="Times New Roman"/>
                    <a:hlinkClick r:id="rId3"/>
                  </a:rPr>
                  <a:t>Warszawa II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2), </a:t>
                </a:r>
                <a:r>
                  <a:rPr b="0" lang="en-US" sz="1800" spc="-1" strike="noStrike" u="sng">
                    <a:solidFill>
                      <a:srgbClr val="b0ae6a"/>
                    </a:solidFill>
                    <a:uFillTx/>
                    <a:latin typeface="Times New Roman"/>
                    <a:hlinkClick r:id="rId4"/>
                  </a:rPr>
                  <a:t>Polonia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3),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Lituania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4-66),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Wojna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6-67). Malował sceny związane z Powstaniem  Styczniowym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Przejście przez granicę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5),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Pochód na Sybir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6), portrety, sceny rodzajowe W ogrodzie, kompozycje historyczne </a:t>
                </a:r>
                <a:r>
                  <a:rPr b="0" i="1" lang="en-US" sz="1800" spc="-1" strike="noStrike">
                    <a:solidFill>
                      <a:srgbClr val="5b5249"/>
                    </a:solidFill>
                    <a:latin typeface="Times New Roman"/>
                  </a:rPr>
                  <a:t>Ucieczka Henryka Walezego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 (1860), sceny batalistyczne, konie, zaprzęgi, polowania, karykatury. Jako ilustrator współpracował z czsopismami wiedeńskimi, m.in. z "Illustrierte Zeitung". </a:t>
                </a:r>
                <a:endParaRPr b="0" lang="en-US" sz="18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    </a:t>
                </a:r>
                <a:r>
                  <a:rPr b="0" lang="en-US" sz="1800" spc="-1" strike="noStrike">
                    <a:solidFill>
                      <a:srgbClr val="5b5249"/>
                    </a:solidFill>
                    <a:latin typeface="Times New Roman"/>
                  </a:rPr>
                  <a:t>Twórczość Grottgera zyskała ogromną popularność dzięki głęboko patriotycznej wymowie.</a:t>
                </a:r>
                <a:endParaRPr b="0" lang="en-US" sz="1800" spc="-1" strike="noStrike">
                  <a:solidFill>
                    <a:srgbClr val="5b5249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5400" y="1911240"/>
                <a:ext cx="7315200" cy="4558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990720" y="1905120"/>
              <a:ext cx="7324560" cy="4571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REZENTACJA WŁAŚCIWA</a:t>
            </a:r>
            <a:br>
              <a:rPr sz="4400"/>
            </a:b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okaz przygotowanych obrazów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BRANK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5" name="Branka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9343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SCHRONISKO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7" name="Schronisko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619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PO ODEJŚCIU WROGA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9" name="Po%20odejściu%20wroga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-53388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NA POBOJOWISKU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Na%20pobojowisku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a3d7a"/>
                </a:solidFill>
                <a:latin typeface="Times New Roman"/>
              </a:rPr>
              <a:t>KUCIE KO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Kucie%20kos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3915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09:17:29Z</dcterms:created>
  <dc:creator>MEN</dc:creator>
  <dc:description/>
  <dc:language>en-US</dc:language>
  <cp:lastModifiedBy>MEN</cp:lastModifiedBy>
  <dcterms:modified xsi:type="dcterms:W3CDTF">2002-01-11T09:46:02Z</dcterms:modified>
  <cp:revision>20</cp:revision>
  <dc:subject/>
  <dc:title>Powstanie styczniowe</dc:title>
</cp:coreProperties>
</file>